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76D-F89C-432D-A5FD-2B4A917D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9D8-4FC5-479B-8A3A-B4D3F20A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B95-E456-41C4-9F5D-4BB44279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203-DC0E-425F-A3D2-3986BEBA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58C-310F-424B-BAED-D0EF9BDE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1C8-A245-43EF-A4E3-1FFF01C1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EC9-1684-4120-ABD0-15184AD5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35E-9F15-4082-BEDB-B6890817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45A-914E-4670-AE04-0C2A6E11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A9F-E3CF-47DB-ACEB-DCB5CBAD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C79-41AA-44EE-AC88-E7072744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727-45B1-4F25-8DC0-197B0382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B876-E938-4F8D-9E44-C646354759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3008160" y="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OTTISH  ASSOCIATION  &amp;  AFFIL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5736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 POLICE                        SCOTTISH  POLICE  50TH                POLICE  75TH                    RETIRED  POLICE          SCOTTISH  PRISON  SERVICE      SCOTTISH  RAILWAY  STAFF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Scottish Prison Service"/>
          <p:cNvPicPr/>
          <p:nvPr/>
        </p:nvPicPr>
        <p:blipFill>
          <a:blip r:embed="rId1"/>
          <a:stretch/>
        </p:blipFill>
        <p:spPr>
          <a:xfrm>
            <a:off x="6392880" y="54936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Railway Staff Assoc For Scotland"/>
          <p:cNvPicPr/>
          <p:nvPr/>
        </p:nvPicPr>
        <p:blipFill>
          <a:blip r:embed="rId2"/>
          <a:stretch/>
        </p:blipFill>
        <p:spPr>
          <a:xfrm>
            <a:off x="8048520" y="54936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SRIBA"/>
          <p:cNvPicPr/>
          <p:nvPr/>
        </p:nvPicPr>
        <p:blipFill>
          <a:blip r:embed="rId3"/>
          <a:stretch/>
        </p:blipFill>
        <p:spPr>
          <a:xfrm>
            <a:off x="415800" y="1916280"/>
            <a:ext cx="1084320" cy="116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Scottish Young Bowlers"/>
          <p:cNvPicPr/>
          <p:nvPr/>
        </p:nvPicPr>
        <p:blipFill>
          <a:blip r:embed="rId4"/>
          <a:stretch/>
        </p:blipFill>
        <p:spPr>
          <a:xfrm>
            <a:off x="2073240" y="2133720"/>
            <a:ext cx="96048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Retired Police Assoc"/>
          <p:cNvPicPr/>
          <p:nvPr/>
        </p:nvPicPr>
        <p:blipFill>
          <a:blip r:embed="rId5"/>
          <a:stretch/>
        </p:blipFill>
        <p:spPr>
          <a:xfrm>
            <a:off x="4952880" y="54936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Scottish Police Assoc 75th"/>
          <p:cNvPicPr/>
          <p:nvPr/>
        </p:nvPicPr>
        <p:blipFill>
          <a:blip r:embed="rId6"/>
          <a:stretch/>
        </p:blipFill>
        <p:spPr>
          <a:xfrm>
            <a:off x="3657600" y="54936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Scottish Police Assoc 50th"/>
          <p:cNvPicPr/>
          <p:nvPr/>
        </p:nvPicPr>
        <p:blipFill>
          <a:blip r:embed="rId7"/>
          <a:stretch/>
        </p:blipFill>
        <p:spPr>
          <a:xfrm>
            <a:off x="2000160" y="404640"/>
            <a:ext cx="1390680" cy="117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8"/>
          <p:cNvSpPr/>
          <p:nvPr/>
        </p:nvSpPr>
        <p:spPr>
          <a:xfrm>
            <a:off x="0" y="305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.S.R.I.B.A.                     SCOTTISH  YOUNG  BOWLERS                 S.Y.B.  25TH                                   CHAS                           S.A.B.B. WORLD  BOWLS               SCOTTISH  CHEM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Scottish Police Assoc 2"/>
          <p:cNvPicPr/>
          <p:nvPr/>
        </p:nvPicPr>
        <p:blipFill>
          <a:blip r:embed="rId8"/>
          <a:stretch/>
        </p:blipFill>
        <p:spPr>
          <a:xfrm>
            <a:off x="344520" y="47628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CHAS.jpg"/>
          <p:cNvPicPr/>
          <p:nvPr/>
        </p:nvPicPr>
        <p:blipFill>
          <a:blip r:embed="rId9"/>
          <a:stretch/>
        </p:blipFill>
        <p:spPr>
          <a:xfrm>
            <a:off x="5024520" y="2071800"/>
            <a:ext cx="11430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Blind Bowlers World.jpg"/>
          <p:cNvPicPr/>
          <p:nvPr/>
        </p:nvPicPr>
        <p:blipFill>
          <a:blip r:embed="rId10"/>
          <a:stretch/>
        </p:blipFill>
        <p:spPr>
          <a:xfrm>
            <a:off x="6453360" y="2071800"/>
            <a:ext cx="1012680" cy="100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Scottish Young Bowlers 25th.jpg"/>
          <p:cNvPicPr/>
          <p:nvPr/>
        </p:nvPicPr>
        <p:blipFill>
          <a:blip r:embed="rId11"/>
          <a:stretch/>
        </p:blipFill>
        <p:spPr>
          <a:xfrm>
            <a:off x="3595680" y="2000160"/>
            <a:ext cx="1058760" cy="108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cottish Chemists Assoc.jpg"/>
          <p:cNvPicPr/>
          <p:nvPr/>
        </p:nvPicPr>
        <p:blipFill>
          <a:blip r:embed="rId12"/>
          <a:stretch/>
        </p:blipFill>
        <p:spPr>
          <a:xfrm>
            <a:off x="8121600" y="1773360"/>
            <a:ext cx="1135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1:25:13Z</dcterms:created>
  <dc:creator>HP authorized customer</dc:creator>
  <dc:description/>
  <dc:language>en-US</dc:language>
  <cp:lastModifiedBy>John</cp:lastModifiedBy>
  <dcterms:modified xsi:type="dcterms:W3CDTF">2010-12-09T20:20:42Z</dcterms:modified>
  <cp:revision>8</cp:revision>
  <dc:subject/>
  <dc:title>Slide 1</dc:title>
</cp:coreProperties>
</file>